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44D-74A2-4D0C-83ED-ECCE90D1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2A24-E0E5-4940-8B13-8D149DA3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E3F-8544-405C-9317-FC20EB22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9F3-8A92-46AE-9013-3B6ED8E4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94DD-00BE-4120-B06C-6B002BC0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A2ED-A031-42FF-8D17-F4321F01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99E5-0A88-4145-A4E0-D66E887B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0EF-6D4D-4F6D-9E01-2FE1681D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28C7-E8C6-411C-BFEE-FC711644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04F-923E-49E0-A714-944824DD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10C6-8B5F-4C7D-A58B-AF17E75D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6AE-7BFF-40DB-B15A-CF784C2A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73ED-8271-427A-823B-14C736562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4379" t="10814" r="0" b="0"/>
          <a:stretch/>
        </p:blipFill>
        <p:spPr>
          <a:xfrm>
            <a:off x="324000" y="333360"/>
            <a:ext cx="8424720" cy="592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 rot="702000">
            <a:off x="6658920" y="5300640"/>
            <a:ext cx="288720" cy="360720"/>
          </a:xfrm>
          <a:custGeom>
            <a:avLst/>
            <a:gdLst>
              <a:gd name="textAreaLeft" fmla="*/ 360 w 288720"/>
              <a:gd name="textAreaRight" fmla="*/ 289440 w 288720"/>
              <a:gd name="textAreaTop" fmla="*/ 0 h 360720"/>
              <a:gd name="textAreaBottom" fmla="*/ 361080 h 36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 rot="6132600">
            <a:off x="6983280" y="4472280"/>
            <a:ext cx="288720" cy="360720"/>
          </a:xfrm>
          <a:custGeom>
            <a:avLst/>
            <a:gdLst>
              <a:gd name="textAreaLeft" fmla="*/ 360 w 288720"/>
              <a:gd name="textAreaRight" fmla="*/ 289440 w 288720"/>
              <a:gd name="textAreaTop" fmla="*/ 0 h 360720"/>
              <a:gd name="textAreaBottom" fmla="*/ 361080 h 36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076720" y="4508640"/>
            <a:ext cx="1871640" cy="936360"/>
          </a:xfrm>
          <a:custGeom>
            <a:avLst/>
            <a:gdLst/>
            <a:ahLst/>
            <a:rect l="l" t="t" r="r" b="b"/>
            <a:pathLst>
              <a:path w="1179" h="590">
                <a:moveTo>
                  <a:pt x="997" y="590"/>
                </a:moveTo>
                <a:lnTo>
                  <a:pt x="0" y="273"/>
                </a:lnTo>
                <a:lnTo>
                  <a:pt x="45" y="0"/>
                </a:lnTo>
                <a:lnTo>
                  <a:pt x="907" y="0"/>
                </a:lnTo>
                <a:lnTo>
                  <a:pt x="1179" y="91"/>
                </a:lnTo>
                <a:lnTo>
                  <a:pt x="1179" y="136"/>
                </a:lnTo>
                <a:lnTo>
                  <a:pt x="1134" y="182"/>
                </a:lnTo>
                <a:lnTo>
                  <a:pt x="907" y="91"/>
                </a:lnTo>
                <a:lnTo>
                  <a:pt x="226" y="91"/>
                </a:lnTo>
                <a:lnTo>
                  <a:pt x="136" y="91"/>
                </a:lnTo>
                <a:lnTo>
                  <a:pt x="90" y="182"/>
                </a:lnTo>
                <a:lnTo>
                  <a:pt x="1043" y="499"/>
                </a:lnTo>
                <a:lnTo>
                  <a:pt x="997" y="59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4292640"/>
            <a:ext cx="865080" cy="216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16360" y="3500280"/>
            <a:ext cx="360360" cy="1009800"/>
          </a:xfrm>
          <a:custGeom>
            <a:avLst/>
            <a:gdLst/>
            <a:ahLst/>
            <a:rect l="l" t="t" r="r" b="b"/>
            <a:pathLst>
              <a:path w="227" h="725">
                <a:moveTo>
                  <a:pt x="227" y="0"/>
                </a:moveTo>
                <a:lnTo>
                  <a:pt x="227" y="725"/>
                </a:lnTo>
                <a:lnTo>
                  <a:pt x="0" y="725"/>
                </a:lnTo>
                <a:lnTo>
                  <a:pt x="0" y="362"/>
                </a:lnTo>
                <a:lnTo>
                  <a:pt x="91" y="0"/>
                </a:lnTo>
                <a:lnTo>
                  <a:pt x="227" y="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3196200">
            <a:off x="4642200" y="4582080"/>
            <a:ext cx="574560" cy="144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3789360"/>
            <a:ext cx="1008000" cy="1655640"/>
          </a:xfrm>
          <a:custGeom>
            <a:avLst/>
            <a:gdLst/>
            <a:ahLst/>
            <a:rect l="l" t="t" r="r" b="b"/>
            <a:pathLst>
              <a:path w="635" h="1043">
                <a:moveTo>
                  <a:pt x="635" y="0"/>
                </a:moveTo>
                <a:lnTo>
                  <a:pt x="590" y="453"/>
                </a:lnTo>
                <a:lnTo>
                  <a:pt x="454" y="1043"/>
                </a:lnTo>
                <a:lnTo>
                  <a:pt x="363" y="998"/>
                </a:lnTo>
                <a:lnTo>
                  <a:pt x="0" y="317"/>
                </a:lnTo>
                <a:lnTo>
                  <a:pt x="363" y="181"/>
                </a:lnTo>
                <a:lnTo>
                  <a:pt x="454" y="499"/>
                </a:lnTo>
                <a:lnTo>
                  <a:pt x="499" y="499"/>
                </a:lnTo>
                <a:lnTo>
                  <a:pt x="499" y="0"/>
                </a:lnTo>
                <a:lnTo>
                  <a:pt x="635" y="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rot="16234800">
            <a:off x="3598560" y="3537360"/>
            <a:ext cx="289080" cy="360360"/>
          </a:xfrm>
          <a:custGeom>
            <a:avLst/>
            <a:gdLst>
              <a:gd name="textAreaLeft" fmla="*/ 0 w 289080"/>
              <a:gd name="textAreaRight" fmla="*/ 289080 w 289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rot="21481800">
            <a:off x="3203280" y="3645000"/>
            <a:ext cx="288720" cy="360360"/>
          </a:xfrm>
          <a:custGeom>
            <a:avLst/>
            <a:gdLst>
              <a:gd name="textAreaLeft" fmla="*/ 360 w 288720"/>
              <a:gd name="textAreaRight" fmla="*/ 289440 w 288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08720" y="4724280"/>
            <a:ext cx="1511280" cy="576360"/>
          </a:xfrm>
          <a:custGeom>
            <a:avLst/>
            <a:gdLst/>
            <a:ahLst/>
            <a:rect l="l" t="t" r="r" b="b"/>
            <a:pathLst>
              <a:path w="952" h="363">
                <a:moveTo>
                  <a:pt x="862" y="363"/>
                </a:moveTo>
                <a:lnTo>
                  <a:pt x="0" y="91"/>
                </a:lnTo>
                <a:lnTo>
                  <a:pt x="45" y="0"/>
                </a:lnTo>
                <a:lnTo>
                  <a:pt x="635" y="0"/>
                </a:lnTo>
                <a:lnTo>
                  <a:pt x="952" y="137"/>
                </a:lnTo>
                <a:lnTo>
                  <a:pt x="862" y="363"/>
                </a:lnTo>
                <a:close/>
              </a:path>
            </a:pathLst>
          </a:custGeom>
          <a:solidFill>
            <a:srgbClr val="aaaaf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5148360" y="4869000"/>
            <a:ext cx="15112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148360" y="4581000"/>
            <a:ext cx="7128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4581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43640" y="4581360"/>
            <a:ext cx="4334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859280" y="45813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3862440"/>
            <a:ext cx="20858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 supervised drop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300360" y="4149720"/>
            <a:ext cx="576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84720" y="479736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51440" y="5033880"/>
            <a:ext cx="10569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op off 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95440" y="5538960"/>
            <a:ext cx="10310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king 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5076720" y="5013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5292720" y="5084640"/>
            <a:ext cx="719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83600" y="5516640"/>
            <a:ext cx="118368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ight turn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99240" y="4437000"/>
            <a:ext cx="1278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ight tur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77080" y="5445000"/>
            <a:ext cx="5032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235640" y="4581360"/>
            <a:ext cx="36036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983400">
            <a:off x="6659280" y="5516280"/>
            <a:ext cx="7308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5877000"/>
            <a:ext cx="2971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arking mornings and afterno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300720" y="5876640"/>
            <a:ext cx="35892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25905" t="0" r="23085" b="10388"/>
          <a:stretch/>
        </p:blipFill>
        <p:spPr>
          <a:xfrm>
            <a:off x="2411280" y="333360"/>
            <a:ext cx="6050160" cy="6335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0136400">
            <a:off x="4932000" y="501300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095600">
            <a:off x="6156000" y="333360"/>
            <a:ext cx="576360" cy="576360"/>
          </a:xfrm>
          <a:custGeom>
            <a:avLst/>
            <a:gdLst>
              <a:gd name="textAreaLeft" fmla="*/ 0 w 576360"/>
              <a:gd name="textAreaRight" fmla="*/ 576720 w 576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219280" y="3213000"/>
            <a:ext cx="144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9560" y="3429000"/>
            <a:ext cx="154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n f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7560" y="3429000"/>
            <a:ext cx="1282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ar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40766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16360" y="3573360"/>
            <a:ext cx="36036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5363640" y="335736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3284640"/>
            <a:ext cx="289080" cy="865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4T04:50:36Z</dcterms:created>
  <dc:creator>Craig Phasey</dc:creator>
  <dc:description/>
  <dc:language>en-US</dc:language>
  <cp:lastModifiedBy>Craig Phasey</cp:lastModifiedBy>
  <dcterms:modified xsi:type="dcterms:W3CDTF">2008-03-14T05:29:01Z</dcterms:modified>
  <cp:revision>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75348523</vt:r8>
  </property>
  <property fmtid="{D5CDD505-2E9C-101B-9397-08002B2CF9AE}" pid="3" name="_AuthorEmail">
    <vt:lpwstr>Craig.Phasey@NovaGroup.com.au</vt:lpwstr>
  </property>
  <property fmtid="{D5CDD505-2E9C-101B-9397-08002B2CF9AE}" pid="4" name="_AuthorEmailDisplayName">
    <vt:lpwstr>Phasey, Craig</vt:lpwstr>
  </property>
  <property fmtid="{D5CDD505-2E9C-101B-9397-08002B2CF9AE}" pid="5" name="_EmailSubject">
    <vt:lpwstr>Kenmore Bypass discussion</vt:lpwstr>
  </property>
  <property fmtid="{D5CDD505-2E9C-101B-9397-08002B2CF9AE}" pid="6" name="_NewReviewCycle">
    <vt:lpwstr/>
  </property>
</Properties>
</file>